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792-CFF2-4ABD-A35B-A94E72E6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137-29EA-48FA-ADA3-21D13313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5D5-453F-43FF-A28A-BBC12E63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FB1-02BB-4E37-9A83-EF67BA9C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8455-4322-4338-9F82-162F21A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6FD-2982-43B0-A9D3-E3CF722E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894-91B6-48AB-B40E-0D7F28F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442A-D0E3-41C2-9EEC-980505A4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AAB-0D63-448F-8F53-02B0D8D5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78DB-EF3D-41A2-8D9C-908A250B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49A-E98E-4DE5-B05E-F3A465D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2E4-31D6-4764-8FE3-B8339905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F20E-8E97-4CC3-AD95-72133A9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7EE9-42FB-4BD4-A399-EE00B12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10B8-92DD-4C69-962F-9307E166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3974-AE13-46B0-B639-FC7A29C9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03E-7E55-4E69-95FE-E3F49061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13D-8838-444A-B651-AC1CE25E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04C-DF9D-45ED-8A9D-7E00AAB7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216-19F1-46A4-ABDD-4AE1464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F77-E176-4116-BF4D-BE3BACDE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FDB-2941-483D-803E-13A457BE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BE0-2B8D-4E41-8F8F-D2C5C1E7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8F4-0256-4053-A11D-CEFC2544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D307-5193-492F-BB59-FF15AE27E4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C91-351D-443C-8A75-3ABBF237F6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WebQue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Actividad de búsqueda guiada, que se propone a los alumnos, en la cual la mayor parte de la información empleada está extraída de la 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Convertir Internet en una fuente activa y cambiante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Integrar su componente lúdico en beneficio de la dinámica doc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Aportar un modelo de trabajo para el profesor que le sirva de pauta genérica y estructurante para su labor con los nuevos med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Rounded MT Bold"/>
              </a:rPr>
              <a:t>Perder el miedo a continuar la clase dentro del aula de informá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n creadas para que los alumnos trabajen en grupo aunque también hay individu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importante no es la búsqueda de información sino el uso que de ella se hace. De hecho deben proponerse las direcciones donde encontrar la inform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ben emplearse para resolver cuestiones puntuales sino en temas no muy definidos de modo que se favorezca la creatividad del alum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Int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donde se indique la información básica al alumno sobre lo que se esp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Tare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se debe proporcionar una descripción formal del trabajo que deberá haber llevado a cabo el alumno al final de la WebQuest ( puede ser un producto como una exposición verbal o escrita, una presentación en Power Point, una página Web, responder a unas preguntas, 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Proces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 este apartado se sugiere a los alumnos los pasos a seguir para completar la tarea. Debe ser breve y cla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Recurs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lista de sitios web que el profesor ha localizado para ayudar al estudiante a realizar la t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Evalu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se hará una descripción de lo que se va a evaluar y como se hará. Hay plantillas de evaluación para valorar el trabajo de los estudi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uesta en práct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La instrucción necesaria para el profesor abarca tan só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3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Los conceptos teóricos pertinentes a cómo diseñar un WQ efectivo, cómo hacer que éste sea productivo y ajustado a sus necesidades doc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3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Una exigua formación en naveg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375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Breves tomas de contacto con herramientas del tipo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 Rounded MT Bold"/>
              </a:rPr>
              <a:t>materiales de búsqueda, copia y edición de documentos de la red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sos para su diseñ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scar buenos sitios Web utilizando buscadores como Google. Estos sitios harán referencia a los contenidos y objetivos que queremos abordar con los alumnos. Se incluirán en el apartado “Recurso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rganizar los estudiantes y los recursos de modo que se fomente la interacción de los alum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63b1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tar a los alumnos a pensar, motivando a los alumnos a razonar y a ser crea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1:12:54Z</dcterms:created>
  <dc:creator>cpr</dc:creator>
  <dc:description/>
  <dc:language>en-US</dc:language>
  <cp:lastModifiedBy>cpr</cp:lastModifiedBy>
  <dcterms:modified xsi:type="dcterms:W3CDTF">2007-03-23T12:00:08Z</dcterms:modified>
  <cp:revision>1</cp:revision>
  <dc:subject/>
  <dc:title>WebQuest</dc:title>
</cp:coreProperties>
</file>